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E0E-065F-44E3-8C6F-1A96EF4DE0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50A0-DE3D-4892-90F8-8EB991BC78E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610-686E-4DA6-9EC2-4650F997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2AE-6977-4930-8FE8-8CE7D0A2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B15-F38A-46F8-9E41-1BA419AE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809-C03A-45A9-AE0D-2FCCE355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874-97E3-4990-82CF-6FAD05ED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E3D-915E-4FBB-B5CA-D007F97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736-2597-4AC5-998C-DF60DF5E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202-5BB5-46E2-BE3F-7D6DA576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7EA-A9AF-4070-AD76-D47C6A2F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7C9-A086-41D2-B5E7-67C026AD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6DE-0FAE-469F-9E99-73A749C2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D6D-89D6-4577-92CC-E5974486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2D09-9943-4393-8CB8-7327C157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b4c79d"/>
                </a:solidFill>
                <a:latin typeface="Arial"/>
              </a:rPr>
              <a:t>Evaluar competencias básicas: una propuest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r. José Moya Ot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Universidad de Las Palmas de Gran Ca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3 Rectángulo"/>
          <p:cNvSpPr/>
          <p:nvPr/>
        </p:nvSpPr>
        <p:spPr>
          <a:xfrm>
            <a:off x="68760" y="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Proyecto Atlán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2 CuadroTexto"/>
          <p:cNvSpPr/>
          <p:nvPr/>
        </p:nvSpPr>
        <p:spPr>
          <a:xfrm>
            <a:off x="6721920" y="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Dr. José Moya O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r: una 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480"/>
            <a:ext cx="8183520" cy="433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" - recoger un conjunto de informaciones suficientemente pertinentes, válidas y fiables y examinar </a:t>
            </a:r>
            <a:r>
              <a:rPr b="0" i="1" lang="es-ES" sz="3200" spc="-1" strike="noStrike">
                <a:solidFill>
                  <a:srgbClr val="c00000"/>
                </a:solidFill>
                <a:latin typeface="Arial"/>
              </a:rPr>
              <a:t>el grado de adecuación entre dicho conjunto de informaciones y un conjunto de criterios adecuados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 los objetivos inicialmente establecidos o gestados sobre la marcha, con vistas a la toma de una decisión. "(De Ketele y Roegiers, 1995: 83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ble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840" y="1357200"/>
            <a:ext cx="5929200" cy="3929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8000"/>
          </a:bodyPr>
          <a:p>
            <a:pPr marL="206640" indent="-206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ustitución de un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valuación informal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basada en impresiones personales) por un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valuación formal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basada en criteri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 algn="just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70c0"/>
                </a:solidFill>
                <a:latin typeface="Arial"/>
              </a:rPr>
              <a:t>El docente cree saber con bastante exactitud lo que valen sus alumnos respecto de una materia concreta y si la nota se aparta demasiado de su evaluación intuitiva, el error está en la nota.(Perrenoud, 1996: 2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6640" indent="-206640" algn="just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unige.ch/fapse/SSE/teachers/perrenoud/php_main/php_photo.jpg"/>
          <p:cNvPicPr/>
          <p:nvPr/>
        </p:nvPicPr>
        <p:blipFill>
          <a:blip r:embed="rId1"/>
          <a:stretch/>
        </p:blipFill>
        <p:spPr>
          <a:xfrm>
            <a:off x="6429240" y="1285920"/>
            <a:ext cx="2143440" cy="20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agapea.com/morata/CONSTRUCCION-DEL-EXITO-Y-DEL-FRACASO-ESCOLAR--LA-i0n232440.jpg"/>
          <p:cNvPicPr/>
          <p:nvPr/>
        </p:nvPicPr>
        <p:blipFill>
          <a:blip r:embed="rId2"/>
          <a:stretch/>
        </p:blipFill>
        <p:spPr>
          <a:xfrm>
            <a:off x="6429240" y="3357720"/>
            <a:ext cx="22147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ción en la LOE: similitudes y di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Rectángulo"/>
          <p:cNvSpPr/>
          <p:nvPr/>
        </p:nvSpPr>
        <p:spPr>
          <a:xfrm>
            <a:off x="324000" y="422100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Estas evaluaciones versarán sobre las competencias básicas del currículo, se realizarán en la enseñanza primaria y secundaria e incluirán, en todo caso, las previstas en los artículos 21 y 29. La Conferencia Sectorial de Educación velará para que estas evaluaciones se realicen con criterios de homogeneidad. (LOE, art. 1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773360"/>
            <a:ext cx="7777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CIÓN DE DIAGNÓ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2349360"/>
            <a:ext cx="7777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CIÓN FORMATIVA Y SUMATIVA DE APRENDIZ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2560" y="3062160"/>
            <a:ext cx="7777080" cy="3682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 modelo de elaboración compartido: el modelo matr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183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ciones de diagnóstico: 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n 2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858080" cy="4429080"/>
          </a:xfrm>
          <a:prstGeom prst="rect">
            <a:avLst/>
          </a:prstGeom>
          <a:ln w="0">
            <a:noFill/>
          </a:ln>
        </p:spPr>
      </p:pic>
      <p:sp>
        <p:nvSpPr>
          <p:cNvPr id="65" name="3 CuadroTexto"/>
          <p:cNvSpPr/>
          <p:nvPr/>
        </p:nvSpPr>
        <p:spPr>
          <a:xfrm>
            <a:off x="1672200" y="607212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ejería de Educación y Ciencia. Gobierno de 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modelo matr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2" descr=""/>
          <p:cNvPicPr/>
          <p:nvPr/>
        </p:nvPicPr>
        <p:blipFill>
          <a:blip r:embed="rId1"/>
          <a:stretch/>
        </p:blipFill>
        <p:spPr>
          <a:xfrm>
            <a:off x="714240" y="2857680"/>
            <a:ext cx="7715520" cy="292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413000"/>
            <a:ext cx="7561440" cy="642600"/>
          </a:xfrm>
          <a:prstGeom prst="rect">
            <a:avLst/>
          </a:prstGeom>
          <a:solidFill>
            <a:srgbClr val="ec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Combinación de criterios que ayudan a decidir el tipo de prueba(s) que permitirán valorar los aprendizajes adqui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modelo matricial: compon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16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4572000" cy="45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940360" y="1397160"/>
          <a:ext cx="2808360" cy="40636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gni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x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b2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0:08:57Z</dcterms:created>
  <dc:creator>pilar</dc:creator>
  <dc:description/>
  <dc:language>en-US</dc:language>
  <cp:lastModifiedBy>hp</cp:lastModifiedBy>
  <dcterms:modified xsi:type="dcterms:W3CDTF">2010-03-07T12:23:09Z</dcterms:modified>
  <cp:revision>2</cp:revision>
  <dc:subject/>
  <dc:title>Evaluar competencias básicas: una propuesta</dc:title>
</cp:coreProperties>
</file>